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3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1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3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1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4A0-E675-4981-BCC3-451F3E70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B96-0F96-4E27-8AFB-F6042000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850-0B3E-47D9-B8F0-AB02D478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94F-2800-43FE-898C-64F9395A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1A4-2CCF-4AC1-A8BA-B6E9459C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62E-0779-4879-BDA9-1D7DCF3B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950-AC53-46A5-97A6-517326F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A1C-CAFC-498B-B3F4-DBD13E57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07A-88CF-4BC9-8BC0-93A1BA72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DFF-BF51-4B3B-BA67-DFEAC818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DC4-BA7E-4D5C-AD29-BED01D4A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23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51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9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23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51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265-36F5-4AF8-8402-46F593C6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 flipH="1">
            <a:off x="761760" y="6095880"/>
            <a:ext cx="838188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0" y="152280"/>
            <a:ext cx="609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614880" y="6275520"/>
            <a:ext cx="24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ntrepreneurial Finan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lman and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6705720" y="61038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2010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415296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8EC8582B-FC17-41E5-A066-89B520AB5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F787-2245-4CB1-A0AD-7FBD4857E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hapter 8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Value of Money Part I: Future and Present Value of Lump S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xample Fixed Interest Commercial Loan, fixed interest.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3048120" y="2362320"/>
          <a:ext cx="3806640" cy="34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362320"/>
                    <a:ext cx="380664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7"/>
          <p:cNvSpPr/>
          <p:nvPr/>
        </p:nvSpPr>
        <p:spPr>
          <a:xfrm>
            <a:off x="1600200" y="1371600"/>
            <a:ext cx="573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 for $120,000. Five years at 9.5 percent interest. Bank provides borrower with amortization table and payment bo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ixed principal variable interest loan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 calculates daily interest which is adjusted every time prime interest rate chan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orrower with  an invoice every mo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able 8-1, prime rate changed on December 11. Therefore invoice for December would have 10 days of interest using prime of 7.5 percent and 21 days of interest using a prime rate of 7.25 perc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dge Loan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 loans are simple interest loans provided to borrowers who need a temporary loan to provide funds between the sale of one piece of property and the purchase of another piece of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 actually owns two properties while awaiting the release of funds from the first piece of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must have sufficient funds to make simultaneous payments on two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property sells, and funds are released the borrower has sufficient funds to pay back bridge loan which is based on the days the loan is in eff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ank Discou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nk discount is an amount of interest that is deducted from the amount you wish to bor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0"/>
              <p:cNvSpPr txBox="1"/>
              <p:nvPr/>
            </p:nvSpPr>
            <p:spPr>
              <a:xfrm>
                <a:off x="3429000" y="2971800"/>
                <a:ext cx="2362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Object 1"/>
          <p:cNvGraphicFramePr/>
          <p:nvPr/>
        </p:nvGraphicFramePr>
        <p:xfrm>
          <a:off x="2570040" y="3962520"/>
          <a:ext cx="4003920" cy="19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040" y="3962520"/>
                    <a:ext cx="40039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ank Discount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are the amount the bank actually provides to the borrower after deducting the discount from the amount intended to be borr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2514600" y="3200400"/>
          <a:ext cx="4114800" cy="19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00400"/>
                    <a:ext cx="4114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ank Discount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0"/>
              <p:cNvSpPr txBox="1"/>
              <p:nvPr/>
            </p:nvSpPr>
            <p:spPr>
              <a:xfrm>
                <a:off x="990720" y="990720"/>
                <a:ext cx="7543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ount Borrowed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e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-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"/>
              <p:cNvSpPr txBox="1"/>
              <p:nvPr/>
            </p:nvSpPr>
            <p:spPr>
              <a:xfrm>
                <a:off x="990720" y="1752480"/>
                <a:ext cx="756288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fective annual interest rate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interest paid 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roceed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$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6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$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ffective annual interest rat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696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990720" y="2895480"/>
                <a:ext cx="75438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ount Borrowed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e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-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0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990720" y="3809880"/>
                <a:ext cx="7576920" cy="21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fective annual interest rate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interest paid 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roceed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$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$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90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5</m:t>
                                        </m:r>
                                      </m:den>
                                    </m:f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6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ederal Treasury Bill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ituations in which the entrepreneur can actually perform the function of a ban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etter source of investing than to lend the government of the United States money for a short period of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vernment issues discounted treasury bills in denominations of $10,000 for three months, six months, and one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ree-Month Treasury Bil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024"/>
              <p:cNvSpPr txBox="1"/>
              <p:nvPr/>
            </p:nvSpPr>
            <p:spPr>
              <a:xfrm>
                <a:off x="1860480" y="1905120"/>
                <a:ext cx="439740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dt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05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ceed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ceeds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−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025"/>
              <p:cNvSpPr txBox="1"/>
              <p:nvPr/>
            </p:nvSpPr>
            <p:spPr>
              <a:xfrm>
                <a:off x="1468440" y="3813120"/>
                <a:ext cx="635652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fective  annual  interest  rate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interest  paid 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roceed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$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$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5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1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9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5</m:t>
                                        </m:r>
                                      </m:den>
                                    </m:f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perc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pound Interes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 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arned or charged on both the principal amount and on the accrued interest that has been previously earned or char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4191120" y="342900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616040" y="4013280"/>
                <a:ext cx="6443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t for year 1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$1,00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$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47720" y="4668840"/>
                <a:ext cx="63039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t for year 2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$1,04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$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pound Interest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bypass the multiple individual steps in computing compound interest by using the following compound interest formula to determine futur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0"/>
              <p:cNvSpPr txBox="1"/>
              <p:nvPr/>
            </p:nvSpPr>
            <p:spPr>
              <a:xfrm>
                <a:off x="2895480" y="2743200"/>
                <a:ext cx="2438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4" name="Object 1"/>
          <p:cNvGraphicFramePr/>
          <p:nvPr/>
        </p:nvGraphicFramePr>
        <p:xfrm>
          <a:off x="990720" y="3724200"/>
          <a:ext cx="7391160" cy="16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24200"/>
                    <a:ext cx="739116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2133720" y="5562720"/>
                <a:ext cx="4114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uture value facto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V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8"/>
          <p:cNvSpPr/>
          <p:nvPr/>
        </p:nvSpPr>
        <p:spPr>
          <a:xfrm>
            <a:off x="1584720" y="3241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relationship between the time value of money and 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 between effective rate and stated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future value lump sum and present value lump sum factors that are used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ffective Rat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oted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ate of interest that is listed, normally on an annual basis, and it disregards compound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annual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ctual rate that is paid by the borrower or earned by the investor after compounding is taken into consid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ffective Rat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 bank quotes 8 percent annual rate. The bank wants monthly payments, so it compounds month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2427120" y="2362320"/>
                <a:ext cx="4278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 Annual Rate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5"/>
          <p:cNvGraphicFramePr/>
          <p:nvPr/>
        </p:nvGraphicFramePr>
        <p:xfrm>
          <a:off x="762120" y="2989440"/>
          <a:ext cx="7619760" cy="145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89440"/>
                    <a:ext cx="761976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774720" y="4645080"/>
                <a:ext cx="79884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fective Annual Rate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8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67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3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30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 Lump Sum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a lump sum amoun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iods and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e of re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200400" y="2895480"/>
                <a:ext cx="2590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V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Group 9"/>
          <p:cNvGrpSpPr/>
          <p:nvPr/>
        </p:nvGrpSpPr>
        <p:grpSpPr>
          <a:xfrm>
            <a:off x="1025640" y="3470400"/>
            <a:ext cx="7203960" cy="2409840"/>
            <a:chOff x="1025640" y="3470400"/>
            <a:chExt cx="7203960" cy="2409840"/>
          </a:xfrm>
        </p:grpSpPr>
        <p:graphicFrame>
          <p:nvGraphicFramePr>
            <p:cNvPr id="170" name="Object 5"/>
            <p:cNvGraphicFramePr/>
            <p:nvPr/>
          </p:nvGraphicFramePr>
          <p:xfrm>
            <a:off x="1025640" y="4008600"/>
            <a:ext cx="7203960" cy="1871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7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5640" y="4008600"/>
                      <a:ext cx="72039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Text Box 11"/>
            <p:cNvSpPr/>
            <p:nvPr/>
          </p:nvSpPr>
          <p:spPr>
            <a:xfrm>
              <a:off x="1356120" y="3470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 Lump Sum (Example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66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save $10,000 at 5 percent interest for 10 years compounded annually. What is the future value of this investment after 10 yea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0"/>
              <p:cNvSpPr txBox="1"/>
              <p:nvPr/>
            </p:nvSpPr>
            <p:spPr>
              <a:xfrm>
                <a:off x="1676520" y="3276720"/>
                <a:ext cx="4647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8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 Lump Sum (Example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91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wedding costs $20,000 today, how much will the wedding cost 10 years from now if inflation averages 4% a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future value of $100,000 if money is compounded monthly at 6% for 18 years? Note: The answer below was obtained by using a calculator. If you use tables, the answer is $293,6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1752480" y="2438280"/>
                <a:ext cx="50292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0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1676520" y="4495680"/>
                <a:ext cx="37335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368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 Future Lump Sum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67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present value of a future lump sum amount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iods at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te of retur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1127160" y="3367080"/>
            <a:ext cx="7254720" cy="2260440"/>
            <a:chOff x="1127160" y="3367080"/>
            <a:chExt cx="7254720" cy="2260440"/>
          </a:xfrm>
        </p:grpSpPr>
        <p:sp>
          <p:nvSpPr>
            <p:cNvPr id="183" name="Text Box 12"/>
            <p:cNvSpPr/>
            <p:nvPr/>
          </p:nvSpPr>
          <p:spPr>
            <a:xfrm>
              <a:off x="1127160" y="33670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4" name="Object 7"/>
            <p:cNvGraphicFramePr/>
            <p:nvPr/>
          </p:nvGraphicFramePr>
          <p:xfrm>
            <a:off x="1224000" y="3814920"/>
            <a:ext cx="7157880" cy="1812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24000" y="3814920"/>
                      <a:ext cx="71578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2895480" y="2895480"/>
                <a:ext cx="2210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V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 Lump Sum (Example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28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do you have to deposit in an account today that will have a value of $10,000,000 in 7 years if annual interest is 6% compounded annually? Note: If tables are used rather than a calculator, the answer will be $6,651,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752480" y="3352680"/>
                <a:ext cx="572796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7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36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5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 Stream of Unequal Payment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hlete is offered a $20 million contract over 5 years with a $4 million signing bonus. The contract consists of $2 million for year 1, $3 million for year 2, $3 million for year 3, $3 million for year 4, and $5 million for year 5. What is the present value of the $20 million contract if money can earn 5 percent annual inter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 Stream of Unequal Pay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69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quires us to build a table which is illustrated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8"/>
          <p:cNvGraphicFramePr/>
          <p:nvPr/>
        </p:nvGraphicFramePr>
        <p:xfrm>
          <a:off x="2209680" y="2895480"/>
          <a:ext cx="4800600" cy="26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95480"/>
                    <a:ext cx="48006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nal Rate of Retur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l Rate of Return (IR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ctual rate of return that equates a dollar invested now with a dollar received in the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bank discount and simple inte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ternal rate of return with respect to the present value of a lump sum and future value of a lump s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the present value of a lump sum and the future value of a lump sum to solve real-life financial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RR is found by using a calculator and the following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nal Rate of Return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1371600" y="2666880"/>
                <a:ext cx="5989680" cy="28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n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V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V</m:t>
                                    </m:r>
                                  </m:den>
                                </m:f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other way of depicting the same formula i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V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V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RR Problem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1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nuary 2002, you bought 10,000 shares of a stock at $2 per share. In January 2006, you sold the 10,000 shares at $3 a share. What is the internal rate of re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295280" y="3581280"/>
                <a:ext cx="655344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n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V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V</m:t>
                                    </m:r>
                                  </m:den>
                                </m:f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4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t xml:space="preserve">$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num>
                                  <m:den>
                                    <m:r>
                                      <m:t xml:space="preserve">$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den>
                                </m:f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4</m:t>
                                </m:r>
                              </m:deg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7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7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ule of 72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find an approximation of the amount of time that it takes a present sum of money to double by dividing the number 72 by the interest rate earned on an investment. This procedure is known as the rule of 72.  Example: How long will it take $1,000 to double if it can be invested at 12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031760" y="3733920"/>
                <a:ext cx="7004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me for investment to doubl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nnual interest rat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year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find the interest required if we know how long it takes an investment to dou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e want $1,000 to double in eight years. What interest to we have to earn on our invest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020600" y="3886200"/>
                <a:ext cx="7101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nual interest rat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 for investment to doubl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perc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ule of 72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a spreadsheet of the mathematics of fi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inancial tables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inancial calculators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Objectiv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 Interes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mount of interest earned on the principal amount st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 amount st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base amount that we borrow or sa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0"/>
              <p:cNvSpPr txBox="1"/>
              <p:nvPr/>
            </p:nvSpPr>
            <p:spPr>
              <a:xfrm>
                <a:off x="3809880" y="2971800"/>
                <a:ext cx="13716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r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" name="Object 1"/>
          <p:cNvGraphicFramePr/>
          <p:nvPr/>
        </p:nvGraphicFramePr>
        <p:xfrm>
          <a:off x="3124080" y="3733920"/>
          <a:ext cx="2895840" cy="226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733920"/>
                    <a:ext cx="28958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 Interest (Example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54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on $1,000 borrowed for one year at 8%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on $1,000 borrowed for six months at 8%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024"/>
              <p:cNvSpPr txBox="1"/>
              <p:nvPr/>
            </p:nvSpPr>
            <p:spPr>
              <a:xfrm>
                <a:off x="2743200" y="2971800"/>
                <a:ext cx="3657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$1,00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025"/>
              <p:cNvSpPr txBox="1"/>
              <p:nvPr/>
            </p:nvSpPr>
            <p:spPr>
              <a:xfrm>
                <a:off x="3733920" y="1600200"/>
                <a:ext cx="1523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026"/>
              <p:cNvSpPr txBox="1"/>
              <p:nvPr/>
            </p:nvSpPr>
            <p:spPr>
              <a:xfrm>
                <a:off x="2666880" y="4419720"/>
                <a:ext cx="3657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$1,00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$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tal Due on Simple Interest Loan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amount due (maturity amount) is equal to principal plus inter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0"/>
          <p:cNvGraphicFramePr/>
          <p:nvPr/>
        </p:nvGraphicFramePr>
        <p:xfrm>
          <a:off x="2895480" y="2971800"/>
          <a:ext cx="3200400" cy="15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71800"/>
                    <a:ext cx="32004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"/>
          <p:cNvGraphicFramePr/>
          <p:nvPr/>
        </p:nvGraphicFramePr>
        <p:xfrm>
          <a:off x="990720" y="5105520"/>
          <a:ext cx="7772400" cy="685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105520"/>
                    <a:ext cx="7772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7"/>
          <p:cNvSpPr/>
          <p:nvPr/>
        </p:nvSpPr>
        <p:spPr>
          <a:xfrm>
            <a:off x="1138680" y="44956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ipulating Simple Interes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954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know any three of the four 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ing for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ing fo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4038480" y="1752480"/>
                <a:ext cx="99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4724280" y="2819520"/>
                <a:ext cx="2743200" cy="18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t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eqAr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num>
                              <m:den/>
                            </m:f>
                          </m:e>
                        </m:eqArr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6"/>
              <p:cNvSpPr txBox="1"/>
              <p:nvPr/>
            </p:nvSpPr>
            <p:spPr>
              <a:xfrm>
                <a:off x="4114800" y="4648320"/>
                <a:ext cx="38862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t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$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num>
                          <m:den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yea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xed Principal Commercial Loan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5120" y="1980720"/>
            <a:ext cx="7591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Principal Commercial Loans are made using a fixed principal payment that remains constant for the life of the lo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 can be either fixed interest loan or variable interest lo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for loans tied to prime or some other federal rate as shown in table 8-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2286000" y="3808440"/>
          <a:ext cx="4800600" cy="208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440"/>
                    <a:ext cx="48006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00:36:06Z</dcterms:created>
  <dc:creator>Philip J. Adelman</dc:creator>
  <dc:description/>
  <dc:language>en-US</dc:language>
  <cp:lastModifiedBy>David McNaughton</cp:lastModifiedBy>
  <cp:lastPrinted>2000-04-13T22:47:49Z</cp:lastPrinted>
  <dcterms:modified xsi:type="dcterms:W3CDTF">2009-12-18T17:02:52Z</dcterms:modified>
  <cp:revision>34</cp:revision>
  <dc:subject/>
  <dc:title>No Slide Title</dc:title>
</cp:coreProperties>
</file>